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5F0D-0429-464F-9C16-A339EF20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D2F4-EE58-4616-994C-B038B0C0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B802-3C8B-49B9-AAB9-ADAD2F16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C131-4278-4A46-B76E-2EDEC6F2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DE0D-383A-4DF9-B592-59BD2C97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F0DC-6721-49B6-85AB-62F5AD55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3FBC-3E28-4AF7-9616-8BEFC7A1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E3DF-102F-48B0-8E7F-AFDBF972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3A8C-20B1-42E6-9693-5617465F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77C0-D0A3-4882-86B7-7079C87C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52B4-986D-46C0-8B20-6E2955C6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3717-DE29-4914-A97C-28098EDB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E40C-9A2D-43A0-902E-F9D86DA111B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8000"/>
                </a:solidFill>
                <a:latin typeface="Arial"/>
              </a:rPr>
              <a:t>La riforma dell’OCM olio d’oliva: contenuti e impatto sul settore olivico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Prof.  Bernardo de Gennaro 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Università degli Studi di B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It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9900"/>
                </a:solidFill>
                <a:latin typeface="Arial"/>
              </a:rPr>
              <a:t>La riforma Fisch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riforma compre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Misure orizzont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isaccoppi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dizionalità dei pagamenti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cross-complianc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istema di consulenza aziendale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audi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odulazione e “disciplina finanziar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Misure settoriali (olio di oli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Modifiche al regim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uto maturato nel periodo storico di rifer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8102400">
            <a:off x="2195280" y="2349000"/>
            <a:ext cx="1368360" cy="1008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252000 h 1008360"/>
              <a:gd name="textAreaBottom" fmla="*/ 756360 h 1008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 rot="10800000">
            <a:off x="471240" y="4005000"/>
            <a:ext cx="331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gamento unico azien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saccoppiamento tot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meno il 60% degli importi di riferimento di ciascuna az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4005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tazione naz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saccoppiamento parz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0% dotazione nazionale per aiuto supplement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2933400">
            <a:off x="5471640" y="2456640"/>
            <a:ext cx="1368360" cy="1008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252000 h 1008000"/>
              <a:gd name="textAreaBottom" fmla="*/ 756000 h 1008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5516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’Italia ha scelto il pagamento dell’aiuto nella forma totalmente disaccoppi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476280"/>
            <a:ext cx="68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00"/>
                </a:solidFill>
                <a:latin typeface="Arial"/>
              </a:rPr>
              <a:t>La riforma Fischler: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isure  settoriali olio di ol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Arial"/>
              </a:rPr>
              <a:t>La riforma Fischler: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accopi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saccoppiare significa SEPARARE il livello di sostegno dalla quantità e dal tipo di produzione. Per cui Il sostegno non è più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egato alla coltivazione per la produzion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 sarà legato ai premi assegnati nel quadriennio di riferimento (1999 –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partire dalla campagna in corso l’aiuto comunitario sarà erogato sulla base dei titoli assegnati e dell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uperficie eleggibi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olivetata condotta dal produttore, per la quale deve essere garantito il mantenimento delle buone condizioni agronomiche e ambientali, dei criteri di condizionalità in materia di sanità pubblica, salute delle piante, ed il rispetto dell’ambiente (cross compli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00"/>
                </a:solidFill>
                <a:latin typeface="Arial"/>
              </a:rPr>
              <a:t>La riforma Fischler: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la determinazione dei Tit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me di pagamento unico modello sto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 produttori verranno riconosciuti dei titoli di premio per ettaro, pari alla media degli importi percepiti nel quadriennio 1999 – 2002 suddivisa per le superfici (olivo GIS) che hanno dato luogo ai pagamenti in questione nello stesso perio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La superficie di rifer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superficie di riferimento è la superficie olivetata ricavata dal GIS (ettaro GIS) sulla base di un algoritmo certificato dalla Commissi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hi possiede una superficie olivetata inferiore a 0,3 riceverà sotto forma di premio disaccoppiato l’intero importo del periodo di riferimento (in Italia anche tutti gli altri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La superficie olivetata: il proced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etodo di calcolo uniforme per tutti gli Stati Memb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produci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più possibile aderente alla realtà sul terr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metodo, definito “Oliarea”, si basa su un algoritmo di calcolo numerico rigorosamente uniforme per tutte le partic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evede la generazione in modo automatico della particella olivetata in base alla posizione nota degli alberi (la posizione degli alberi è quella registrata nel GIS-oleico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La superficie olivetata: il proced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metodo si applica attraverso la determinazione di quattro parametri (si riportano i valori proposti in sede comunitari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 (analisi di vicinanza)– Distanza massima oltre la quale l’olivo è considerato sparso (non fa parte dell’oliveto): valore = 20 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 (superficie di un albero sparso): valore = 100 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 (distanza bordo interno) – Distanza all’interno dell’oliveto oltre la quale la superficie è considerata non olivetata; valore = 10 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4 (distanza bordo esterno); valore = ½ distanza media dell’impia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Fase 1: si determinano gli alberi che fanno parte dell’oliv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9280" y="1600200"/>
            <a:ext cx="431640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3164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Fase 2: si  crea un reticolo tra gli alb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7200720" cy="60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La superficie olivetata: il procedimento</a:t>
            </a:r>
            <a:r>
              <a:rPr b="0" lang="it-IT" sz="2400" spc="-1" strike="noStrike">
                <a:solidFill>
                  <a:srgbClr val="008000"/>
                </a:solidFill>
                <a:latin typeface="Arial"/>
              </a:rPr>
              <a:t> Fas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619520" cy="4525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19280" y="160020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definisce il bordo esterno (linea blu) P4 = ½ distanza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definisce il bordo interno (linea verde) P3 = 10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definisce la sup. di albero sparso, art. 1 reg. CE 2366/98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00 m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Indi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o sguardo all’indie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perché della Rifor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contenuti della Rifor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li aspetti positivi e quelli negati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probabili impat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Un esempio: N. piante: 1.288, Sup. catastale: 21,88 ha, Sup. olivetata: 16,97 ha, Sup/piante: 131,8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8000"/>
                </a:solidFill>
                <a:latin typeface="Arial"/>
              </a:rPr>
              <a:t>Un esempio: N. piante: 1.288, Sup. catastale: 21,88 ha, Sup. olivetata: 16,97 ha, Sup/piante: 131,8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485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8000"/>
                </a:solidFill>
                <a:latin typeface="Arial"/>
              </a:rPr>
              <a:t>Un esempio: N. piante: 1.288, Sup. catastale: 21,88 ha, Sup. olivetata: 16,97ha , Sup/piante: 131,8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485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00200" y="1495440"/>
            <a:ext cx="5943600" cy="38671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8000"/>
                </a:solidFill>
                <a:latin typeface="Arial"/>
              </a:rPr>
              <a:t>Un esempio: N. piante: 1.288, Sup. catastale: 21,88 ha, Sup. olivetata: 16,97, Sup/piante: 131,8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052280"/>
            <a:ext cx="8229600" cy="507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Arial"/>
              </a:rPr>
              <a:t>La riforma Fischler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: titolarità del tito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titolarità del titolo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etta al produttore che ha condotto l’azienda nel periodo di riferimento e che risulta ancora in attività nel momento in cui parte il regime di aiuto disaccoppiat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on è prevista l’assegnazione di titoli a soggetti che non esercitano l’attività agricol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Arial"/>
              </a:rPr>
              <a:t>La riforma Fischler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: i pagamenti del tito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incassare ogni anno il pagamento disaccoppiato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necessario presentare una domanda e dimostrare di condurre un numero di ettari ammissibili corrispondente al numero dei titoli di cui si disp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e superfici oggetto di pagamento disaccoppiato possono essere destinate a qualsiasi utilizzo agricolo tranne ch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a) alle coltivazioni permanenti (salvo gli oliveti piantati prima del 1 maggio 1998) b) alle orticole, comprese le patate da consu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’ consentito anche non coltivare la superficie ma in tal caso è necessario garantire comunque la manutenzione agronomica del fo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00"/>
                </a:solidFill>
                <a:latin typeface="Arial"/>
              </a:rPr>
              <a:t>La riforma Fischler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voca, trasferimenti e cessioni dei titoli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Titoli al pagamen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ono essere esercitati dal titol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itoli non utilizzati per tre anni, tranne per casi di forza maggiore, vengono revocat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confluiscono nella riserva nazional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itoli possono essere cedu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La cessione definitiva può essere perfezionata anche senza cessione del relativo titolo di conduzione di una superficie corrispondente. La cessione a titolo temporaneo (affitto e simili) è valida solo se accompagnata dalla cessione della superficie corrispond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Arial"/>
              </a:rPr>
              <a:t>La riforma Fischler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: tipologia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ei tit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itoli all’ai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itoli stor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􀂅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􀂅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ritiro (set asi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nienti dalla riserva na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Arial"/>
              </a:rPr>
              <a:t>La riforma Fischler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: Riserva na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una parte del plafond nazionale che viene destinato alla costituzione di titoli per gli agricoltori che si troverebbero ad avere oggi un’azienda senza rendita o con una rendita insuffic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9900"/>
                </a:solidFill>
                <a:uFillTx/>
                <a:latin typeface="Arial"/>
              </a:rPr>
              <a:t>Risorse per il settore in Italia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(milioni di euro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0"/>
                <a:gridCol w="3387600"/>
              </a:tblGrid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fond global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44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9.833,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3680">
                      <a:solidFill>
                        <a:srgbClr val="009900"/>
                      </a:solidFill>
                    </a:lnT>
                    <a:lnB w="144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195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gamento unico (aiuto disaccoppiato al 60% + &lt;0,3 ha GIS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9900"/>
                      </a:solidFill>
                    </a:lnT>
                    <a:lnB w="144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7.778,5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440">
                      <a:solidFill>
                        <a:srgbClr val="009900"/>
                      </a:solidFill>
                    </a:lnT>
                    <a:lnB w="144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zione nazionale (40%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9900"/>
                      </a:solidFill>
                    </a:lnT>
                    <a:lnB w="144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2.054,6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440">
                      <a:solidFill>
                        <a:srgbClr val="009900"/>
                      </a:solidFill>
                    </a:lnT>
                    <a:lnB w="144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lioramento qualità (10%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.205,4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9900"/>
                      </a:solidFill>
                    </a:lnR>
                    <a:lnT w="1440">
                      <a:solidFill>
                        <a:srgbClr val="009900"/>
                      </a:solidFill>
                    </a:lnT>
                    <a:lnB w="13680">
                      <a:solidFill>
                        <a:srgbClr val="00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Uno sguardo all’indie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politica comunitaria per il settore dell'olio d'oliva si è andata evolvendo nel corso dei suoi 40 anni di v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Ha le sue origini nel Reg. Ce 136/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uesto testo tentò di trovare  un compromesso tra gli interessi italiani (in quella fase unico importante produttore comunitario) e quelli dei Paesi produttori di oli di s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istema della “preferenza comunitaria” e fissazione di un aiuto al reddito dei produttori mediante il sistema della “integrazione di prezzo” commisurato alle quantità prodot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9900"/>
                </a:solidFill>
                <a:latin typeface="Arial"/>
              </a:rPr>
              <a:t>Mercato interno e scambi (Reg. 865/2004)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pagna commercializzazione: 1° luglio-30 giugno (ora è 1° novembre – 31 ottob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gono aboli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uto alla prod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ituzioni alla prod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ituzione alle esportazioni (inutilizzate da 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9900"/>
                </a:solidFill>
                <a:latin typeface="Arial"/>
              </a:rPr>
              <a:t>Finanziamento programmi di lavoro delle OP (Reg. 865/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x 10% dotazione nazionale (in Italia è stato deciso il 5%) per il finanziamento programmi di lavoro di organizzazioni di operatori p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nitoraggio e gestione amministrativa del mer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iglioramento impatto ambientale olivico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iglioramento della qualità della prod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stema di tracciabilità, certificazione e tutela della qualit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ffusione di informazioni sulle attività svolte da tali organizzazioni ai fini del miglioramento della qualità dell’olio d’ol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9900"/>
                </a:solidFill>
                <a:latin typeface="Arial"/>
              </a:rPr>
              <a:t>La riforma Fischler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dizionalit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(Cross compliance)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erogazione dei pagamenti diretti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è obbligatoriamente vincolata al rispetto di regolamenti e diretti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ateria ambientale, sicurezza alimentare, sanità pubblica, salute e benessere degli anim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vedimenti di natura ambient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ure p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conservazione degli uccelli selvatic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protezione delle acque sotterrane e dall’inquinamen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conservazione degli habitat natural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vedimenti relativi alla salute pubblic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zo degli ormoni in zootec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i e requisiti generali della legislazione alimentare euro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Arial"/>
              </a:rPr>
              <a:t>La riforma Fischler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dizionalit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(Cross compliance)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li impegni a cui ogni agricoltore deve fare riferimento sono suddivisi in due grandi categori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Criteri di gestione obbligator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CGO), che sono delle norme comunitarie in materia di ambiente, benessere degli animali, sicurezza alimentare, e salute animal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Buone condizioni agronomiche ed ambientali (BCAA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tabilite a livello nazionale per garantire il raggiungimento di quattro obiettivi prioritari fissati dall’Ue ovvero: proteggere il suolo; mantenere i livelli di sostanza organica del suolo mediante opportune pratiche agronomiche; proteggere la struttura del suolo; assicurare un livello minimo di mantenimento dell’ecosistema ed evitare il deterioramento degli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habita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li impegni dipendono dalla tipologia di utilizzazione delle partic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lle BCAA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la Norma 4.3: 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manutenzione degli olive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; POTATURA della chioma almeno 1 VOLTA OGNI 5 ann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Gli aspetti positi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inalmente una Riforma !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empestività della ri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disaccopiamento riduce le distorsioni del mercato e costituisce una grande occasione per “pulire” il merc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aggiore trasparenza del merc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aggiore orientamento al merc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ossibili vantaggi per gli innova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aggiore accettabilità del sostegno a livello internazionale (negoziati W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Gli aspetti positi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flessibilità per gli Stati memb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giore sostegno allo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plificazione della gestione (le risorse liberate possono essere utilizzate per attività di valorizzazi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Gli effetti positi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zzazione del sosteg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plificazione della gestione del sostegno (le risorse liberate possono essere utilizzate per attività di valorizzazi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olo agli investim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Gli aspetti negati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sostegno viene accoppiato alla terra (ettari GIS) con alti prezzi della terra e elevate rendite fondia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n nuovo privilegio di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che vede particolarmente premiati i comportamenti “opportunistici” nella precedente O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nuncia ad utilizzare il potere decisionale dato dalla dotazione nazionale per riequilibrare la distribuzione del sosteg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sufficiente supporto alla multifunzionalità (rischio di abbandono nelle aree margin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Le diverse tipologie di impatti della Rifor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itoriale 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entale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ato fondiario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 e articolazione qualitativa dell’offerta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zzi delle diverse qualità di oli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nologie di produzione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zazione della filiera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ato del lavoro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Gli impatti probabi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chio di smantellamento/abbandono oliveti nelle aree margi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spcAft>
                <a:spcPts val="649"/>
              </a:spcAft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olo nelle norme sulla condizionalità obbligo al mantenimento degli elementi caratteristici del paesaggio, se del caso, mediante il divieto di estirpazione degli oliveti e al mantenimento degli oliveti in buone condizioni vegetative (definizione requisiti Stato membr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Uno sguardo all’indie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o complesso sistema si basava sugli elementi seguen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fissazione di un insieme di prezzi di riferimento (prezzo indicativo, prezzo rappresentativo di mercato, prezzo d'intervento, prezzo soglia) che regolamentava gli interventi sul merca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aiuto alla produzione commisurato alle quantità prodot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aiuto al consumo, consistente in una sovvenzione versata alle imprese di imbottigliamento (attuato per un certo numero di ann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dispositivo di scorte d'intervento che funzionava come una garanzia di prezzo minimo concessa ai produttor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protezione del mercato interno mediante un prelievo sulle importazioni e successivamente mediante l'istituzione di un dazio dogana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possibilità per gli esportatori di riscuotere restituzioni o sovvenzioni all'esport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Gli effetti sulla produ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Gli effetti sulla produzione sono incerti e legati alla evoluzione dei prezzi e al tasso di abband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Questo dipenderà dalla redditività della coltura e delle azien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Le aziende in grado di produrre un reddito al netto del sostegno avranno convenienza a continuare a produr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Non abbandona chi produce per l’autoconsu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Abbandona, se i prezzi dell’olio saranno bassi, chi ora produce per l’aiuto soprattutto nelle aree margina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onclus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sostegno non durerà all’infin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o necessarie politiche in grado di rafforzare il reticolo di servizi e strutture di supporto in grado di affiancare le imprese nel rapporto con i merc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o necessari organismi di servizio (le nuove OP) che abbiano al loro interno capacità organizzativa e competenze per affiancare efficacemente le imprese nella sfida compet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onclus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giore bisogno di conoscenza richiede Maggiore vicinanza e interazione tra mondo della ricerca e della prod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liorare il fattore umano, le capacità professionali degli addetti e la cultura imprenditoriale (cultura progettuale e approccio strategico nella gestione azienda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onclus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Bookman Old Style"/>
                <a:ea typeface="Arial"/>
              </a:rPr>
              <a:t>"Le strade si formano quando molti uomini </a:t>
            </a:r>
            <a:br>
              <a:rPr sz="3200"/>
            </a:br>
            <a:r>
              <a:rPr b="1" lang="it-IT" sz="3200" spc="-1" strike="noStrike">
                <a:solidFill>
                  <a:srgbClr val="009900"/>
                </a:solidFill>
                <a:latin typeface="Bookman Old Style"/>
                <a:ea typeface="Arial"/>
              </a:rPr>
              <a:t>le percorrono insieme“ </a:t>
            </a:r>
            <a:r>
              <a:rPr b="1" lang="it-IT" sz="3200" spc="-1" strike="noStrike">
                <a:solidFill>
                  <a:srgbClr val="009900"/>
                </a:solidFill>
                <a:latin typeface="Bookman Old Style"/>
                <a:ea typeface="Times New Roman"/>
              </a:rPr>
              <a:t>(Lu Hsh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Bookman Old Style"/>
                <a:ea typeface="Times New Roman"/>
              </a:rPr>
              <a:t>graz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Uno sguardo all’indietro - La “riforma-ponte”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ampagne 1998/99 - 2000/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po l’ingresso di Grecia e Spagna nella Comunità sono radicalmente cambiati gli equilibri economici e finanzi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men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uto alla produzione (esteso alle olive da mensa) commisurato alle quantità prodo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messi ad aiuto solo gli impianti esistenti al 1° maggio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caggio privato  (che sostituisce il regime di interv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ituzioni alle esportazioni (inutilizz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i di attività delle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ilizzatori di bilancio (QMG e Q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Le motivazioni della rifor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riforma dell’OCM olio di oliva conclude un processo di riforma più amp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riequilibrare il sostegno agricolo t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sure di merca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“primo pilastro” 90% del bilancio agrico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sure di sviluppo rura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“secondo pilastro” 10% del bilancio agrico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Le motivazioni della rifor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cessità di finanziare lo sviluppo agricolo dei nuovi paesi a seguito dell’allargamento dell’Europa a 25 Stati (1° Maggio 200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tenere sotto controllo la spesa della PAC che assorbe circa il 50% delle risorse complessive della U. 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rendere compatibile la PAC con gli accordi sul commercio mond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Le motivazioni della rifor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creare più consenso nell’opinione pubblica sulla spesa della U. E. indirizzata ad un’agricoltura sostenib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giore rispondenza alle esigenze del merca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liore competitività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curezza e qualità degli aliment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zzazione dei redditi agricol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zione dei problemi ambientali nell'ambito della politica agricol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giore vitalità delle zone rural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plificazione e decentr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9900"/>
                </a:solidFill>
                <a:latin typeface="Arial"/>
              </a:rPr>
              <a:t>La riforma Fisch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22 aprile 2004 il Consiglio Agricolo ha raggiunto l’accordo sulle OCM mediterranee (Olio, Tabacco, Cotone e Lupp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29 aprile 2004 sono stati approvati i regolamenti per Olio e Tabac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golamento n.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864/2004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 29/04/2004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modifiche al 1782 con l’introduzione di Olio, tabacco, cotone e lupp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eg. Ce 865/2004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 29/04/2004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OCM Ol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egolamenti Applicativi 795/2004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 21/04/2004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Regolamento per l’applicazione del regime di pagamento uni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796/2004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 21/04/2004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Regolamento per la gestione della condizionalità, modulazione, SIG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1973/2004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 29/10/2004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Regolamento applicativo regimi di sosteg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Bernardo de Gennaro - Università degli Studi di Bari 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15:25:37Z</dcterms:created>
  <dc:creator>Prof. De Gennaro</dc:creator>
  <dc:description/>
  <dc:language>en-US</dc:language>
  <cp:lastModifiedBy>user</cp:lastModifiedBy>
  <dcterms:modified xsi:type="dcterms:W3CDTF">2006-03-23T16:20:56Z</dcterms:modified>
  <cp:revision>16</cp:revision>
  <dc:subject/>
  <dc:title>La riforma dell’OCM olio d’oliva: contenuti e impatto sul settore olivicolo</dc:title>
</cp:coreProperties>
</file>